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E113-1B91-4FD0-BD67-F01ADD0864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4D98-7ABF-4B6B-AC9B-EEF9DCDC28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мограф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– неформальная организация ученых, в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применивших метод математического моделирования к исследованию социально-экологических проце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 в 60-е годы ХХ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0F23-DA0C-4903-B8E6-EF50EE8FEB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C7A9-6B23-4E74-AB22-436968BC96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Альтернативная цивилизация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B239-4BFE-45C0-9206-DA43EF8E88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31BF-CC15-46DC-B846-80AF68F24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4D1D-2845-4153-A57E-D3120B4F46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C20C-C70C-4E27-A557-AC18DD21B3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FAB3-03BA-4930-B977-2CC4FC73EC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F72E-B098-40A4-AF90-B1FDF7DBBE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ущность современной эк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Пределы ро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5DB2-302F-4C5A-A336-3852F05F93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BA9E-CA70-4656-B39E-045F971F72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21A5-42BC-4110-AD2E-4FAC87A623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94C3-0563-4429-9393-1C70CD38FB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97AD-2C94-47C0-B8E6-E539C0BE83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39D1-345F-49C2-8F9A-DC18C332AD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321F-7EFC-4454-8214-33FA41E0B9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02B1-54A3-414D-B093-0BDB722943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5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пециаль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D732-B317-4353-A34D-8663385BB81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13000"/>
          <a:ext cx="6119640" cy="4790880"/>
        </p:xfrm>
        <a:graphic>
          <a:graphicData uri="http://schemas.openxmlformats.org/drawingml/2006/table">
            <a:tbl>
              <a:tblPr/>
              <a:tblGrid>
                <a:gridCol w="6119640"/>
              </a:tblGrid>
              <a:tr h="4804920">
                <a:tc>
                  <a:txBody>
                    <a:bodyPr lIns="72000" rIns="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Глобальные пробл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катастро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граф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Римский клуб – неформальная организация ученых, впер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применивших метод математического моделирования к исследованию социально-экологических процесс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 в 60-е годы ХХ 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хо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3078-B927-44A9-9E23-8B058A812CC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cvalka"/>
          <p:cNvPicPr/>
          <p:nvPr/>
        </p:nvPicPr>
        <p:blipFill>
          <a:blip r:embed="rId1"/>
          <a:stretch/>
        </p:blipFill>
        <p:spPr>
          <a:xfrm>
            <a:off x="287280" y="1484280"/>
            <a:ext cx="40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Альтернативная циви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ECE6-EB46-4CBD-AA73-433F7B2918D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cdfdg"/>
          <p:cNvPicPr/>
          <p:nvPr/>
        </p:nvPicPr>
        <p:blipFill>
          <a:blip r:embed="rId1"/>
          <a:stretch/>
        </p:blipFill>
        <p:spPr>
          <a:xfrm>
            <a:off x="431640" y="1268280"/>
            <a:ext cx="3841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A874-3C9C-4D31-91A5-171EDCDFD8A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27CE-61BB-4587-9FA8-FF2ACCCA766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C874-E941-440D-81C5-293FED70E9E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8E3C-C642-4C7D-B5BC-796AF224DF0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645E-E0D8-433D-92A8-86034FB3CD5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97EB-F79F-40B9-99FB-7C959E3067E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современной экологическ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делы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5459-637F-4260-A78B-43928D32FCA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29A1-C066-484A-82E7-9FFB850FA3E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395D-2508-46EE-8B94-AF6D3A3E6C8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2237-35F8-4BC8-89DC-ED2CFD43FAC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30ED-BC72-4BAE-85F7-7252202FFDE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4175-F5AF-4119-BEDF-55A06B026CD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41300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C9C3-D77C-4C8F-BE7F-161D96A4892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96864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>study.vvsu.ru</dc:description>
  <dc:language>en-US</dc:language>
  <cp:lastModifiedBy>LEGION</cp:lastModifiedBy>
  <dcterms:modified xsi:type="dcterms:W3CDTF">2015-05-06T08:03:55Z</dcterms:modified>
  <cp:revision>151</cp:revision>
  <dc:subject/>
  <dc:title>Глобальные проблемы челове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3000000000001024140</vt:lpwstr>
  </property>
</Properties>
</file>